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54D-FFC1-4C37-AE13-A01E4CE2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DA0-BB6B-4988-A822-D053E4F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20E9-3DC2-4BE3-9A66-B24E160A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DB68-FCB2-4CD3-8622-4A09E78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0ADF5-3E60-4DA8-825B-87D35E62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9CED4-9A0D-42EE-8AB4-764D1D7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EBEE6-89BD-4C3D-87F7-393A625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4D01B-5FFF-4A26-96D7-209B836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F5EA8-8E60-4D45-ADEE-C22C129C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3C35D-11D8-4296-8003-207C5C18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36C4-ECA4-407C-8FA4-257E8FDB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8756B-5890-43AE-A863-6924B29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A9B-7E8F-4D2B-B4AC-33F591F3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AD551-CE17-43EF-8C71-FC84412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A4C6D-7D51-42D0-98E6-66158F3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C9D9A-312C-4217-AD22-F2323BA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6451E-CB27-4259-AC29-42CC28C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B01B-D116-4B05-A332-0CB6113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01A61-88FF-4DBA-8617-ED587FD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7C305-0FA4-497D-994C-C604ED8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FD7F2-07C6-4B0E-B82E-C73CC9C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1F75-8C36-4121-8C36-999FACD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FC03E-B3CF-4025-815C-F7753AEA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BB4-3F6D-4AF7-A4ED-3E6BAC77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6358D-1F2A-4571-849F-305F491B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4A50-7907-4DA7-9DAC-89431943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517CC-088A-462A-8171-EA3241C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5932-4412-451C-A996-1B2A6F1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9CA1-6994-47F1-8D9E-824BCA0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4DDEE-4C91-4C1D-9FDA-CBA0ED6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DE6DB-64DE-4014-9D49-7EE3A16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4B78-7EA5-4F5F-AEC5-AC9DD7DA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9B8C-3ABD-4C99-9B2F-B17BE06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E5597-B02D-46CA-8FFD-78E04D1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4D3-7D69-4A43-A84C-709ABBED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B8C7-1F72-4FA0-9A6E-17A3B29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4E0D-F415-4601-BC0A-3518B3F3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4F94A-3B41-4C86-89F2-C6FDDE9B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F2BC1-B6AF-4DA6-814E-7B3D0C42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58BD0-C38F-499C-B192-A9232D43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C0764-FA89-4486-B8CC-30A77534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6CA4F-8B3E-44EF-AC11-1EBAA2D2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24E69-302F-4CE4-A7F5-EC421B0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C01BF-D79A-4DA4-B81A-2C21E99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ECC8C-9B0B-4EDA-B0DE-5CED3BC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1F29-169F-45F2-827E-2E16D59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E852F-D588-4881-9CB3-C29B778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276CC-8159-48F4-82FD-2764529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177D6-CB56-4F6D-98B0-1BCBD18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BF176-464F-4001-97F2-FD0E5783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805CB-AC94-468E-81F2-314DFE7A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44331-61D5-41CB-BC98-00198739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96640-18BD-4A70-9985-C8E9F5FC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6DC7E-FA81-49DD-94E0-93FE5AE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35753-FBE0-4388-B6A2-721E9AFA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EEDC0-DA65-4F49-96E7-8697A4F8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098D-181C-4FA1-9C58-B53DE7F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16CB8-D8D0-45AF-BA59-2EA532EB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46B0E-0C74-4986-8C23-E7AD8B6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5B906-7183-4AF6-ACBB-818735E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64CA2-809A-47B5-8BA5-6CE88B6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994ED-3961-44FA-97BB-E1F4474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319FF-FBA3-48B9-A460-3CE36B81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947FA-4C4E-4EBE-AFFB-52563036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A9D60-CD44-4BE3-99B7-00ABAB0E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163CB-3287-4947-AACD-C9C23D2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25221-4452-46ED-9272-9B281F8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60EE-3698-4B7B-8FAC-4EC3A91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7A12E-E2AA-4E41-B281-AAB0EFE4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770C2-4DCB-4E65-9CB4-0863F0C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00FD5-48A2-4C82-B952-C181765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61F7-3C08-4BCF-8B0A-4E2223F5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31FE2-54DB-4FAE-8565-32C6B62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878A0-51D5-432B-8E50-494156E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6EA89-76AC-4A73-9A11-C0974240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C9923-1B41-4593-9A24-2090CE3E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CF9AF-A974-4588-8D4F-0E644568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39F49-96FC-4609-855D-07A1C77A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7AD-DCF6-4ED5-B97E-F2FA619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CD0C1-D90E-4E28-8C7B-8C501DE4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F4FD3-A85C-4DED-BDEC-B7F176BC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F4949-76E5-4B43-B682-D524DAF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E6800-BC08-45FB-82C4-88C3966F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C59B4-76CB-474D-8FAE-14B438F9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9A796-A51E-4C1B-9D3C-B3A982C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9C1F2-0B0B-4493-B018-F466C8A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D7415-6017-472F-8CDD-47A0E30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77016-CBA2-4098-831B-EFE3ACE3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0B3C0-2790-41D9-9EE4-80058D9C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A0A-211F-48AD-94F5-1423193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F103E-F08D-41B5-90CE-FE651459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C95CC-FDEF-4856-9267-13EB766B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86C30-A355-4DCF-A428-7484804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F1A25-4649-43B4-B26D-0B1F8BB5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E0D0D-2E1A-4B37-96F0-F0C658F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AB9A7-8DF7-41EF-9FDA-D4DBFE0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ABEFE-3E74-47BD-AC09-6A0F68F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CBD95-5B3A-4E73-B10A-2E411BC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31972-1CB1-4EA2-9647-C3E8605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15443-E4E0-4141-865A-F7B67B4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D00-F0E5-4448-9E2A-11D8C79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5F80C-7247-4AC1-95BC-6ACBF9D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90AFF-C5A6-4656-A263-59DCB9F3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B44B7-5AC8-4BE0-997F-E0DEF9C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5E207-5E2F-42F3-AF4C-8BE50F1C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3568C-F651-4DCC-B243-C4F6598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EDCE4-2703-4298-A6E2-3F6FECD9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15170-23FF-4CB8-AB81-B0D4B1A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7F12D-9AD3-47CE-AC97-BFC1FFC0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0DCCF-D2E9-493B-8195-15B812E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75A50-160F-4132-ADAF-3724E384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144-A7DC-4EF7-91B1-427BFE5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A411-FF1D-46DB-B5E6-0C8AC06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81CDC-CC1E-4A45-950E-71680B0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F047E-192C-4CD1-A561-79B8B28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C8797-5240-42B5-A44A-6BC39653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53B51-2E59-401A-BDAF-C5BADBBB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BB44F-BB77-4906-82A0-631D57CA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62C49-9B36-4EEE-8E33-9B005F68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88E36-C4D3-4E2D-81D7-CC47A30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FCDB8-F7EC-47F1-B5CD-D9B8E6E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A78CC-87AC-4D83-BAC9-46687BC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81BEB-BFF3-4A44-AAD4-644D2ED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18D3-92A5-428E-A7C6-0087B40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E376F-87D6-453E-BC18-F64E40A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61809-3647-48A4-A7AD-ADE98A0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FD921-0815-4FBB-8743-869C3FF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656B3-E685-4D33-B435-7F18206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6EAB3-B388-448C-9993-187FBB8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D0D92-065E-4211-BB32-5002C6BE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2E495-EAD7-4094-863A-91B07A7E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4238C-7D90-4822-AC28-F3215CF4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059FA-89BA-45B8-8098-089A7A6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036E1-BA32-46DF-9AC8-41915D6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549-B81E-43D9-AF7C-20A48A6C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6D21B-EC23-4695-8B1A-68975E8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D25E2-4AB6-4668-B8D4-E7F3FB4A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67D74-901E-4C65-8F53-0F653A88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C5BFD-8C18-459E-B8FD-A17A259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6E231-EA31-4E40-9160-73CDFE8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53C4B-58E7-4977-BF60-CD80DDA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AE1D0-4724-4087-B5E7-9598CDC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DBBD6-64A5-4CCB-AAAA-37C038C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3CEA1-A4F0-4CB2-8F7E-C603D2EC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64A85-9438-4B6E-AE0E-77C80DC3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8AB-CAC8-41BA-B050-806D9889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6E1EA-1C1E-48B0-9BF7-C4904397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DE33E-E282-4368-87B1-97F320F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B43CD-E60B-4F7A-9499-46B3E69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00877-29F1-44B3-A001-D4D3E65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318FF-50FB-45F1-9879-43A419EC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4CFEA-1AC6-4B2E-A60D-3887C42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15DBE-8355-4ABB-B3DC-1CE39EB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43F09-6706-4BC0-B1AE-CD815ED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951B6-34CF-475A-B2AF-6D4A76F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BA3CA2-65CC-4ABB-91F7-630A56C9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8B9-20AC-43E1-9710-FB2460D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2AF7A-F8BE-46D0-A4C2-2C7DCDC2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CE99CC-0A12-41F2-A86D-BAD3728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C6F22-19BF-4D81-85BE-EBD04C1F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A5C76-E3A5-41CB-AC8F-8897DBE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92C89-A283-4F26-B716-D4B2D487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1F6022-EFA5-4FA7-9379-60C0B592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E61AD-B861-4ED8-8E00-54808AF7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E911C-9862-4E4E-A638-CEF9820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E7954-57F6-4750-BBB3-FB2184F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45449-E929-43D9-B7D0-3690F34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F967-1334-4F36-9469-1A0FD42D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F2ED2-6ED3-4E76-8710-52B682F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9B13D-091E-47E6-8770-E9A773AC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CE1F2-4F22-4D0C-9B37-879438EB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1B95B-B9D3-43D4-B8A2-84753A71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C1460-CAA2-4634-BBAD-C56CBC9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244ED0-3422-471C-AABD-3A92456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0860A-772C-4F25-9AA9-CC13FA4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212D5-F79D-4F9A-A3F7-57200B4C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F1C3D-6664-4F8F-A206-BE67C3B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AC244-CD1B-474E-9C3B-D49D84B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F6AC-5948-4A89-A918-861457D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07505-669C-4D08-B359-FC858301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07883-CA1D-4A1D-BDDB-EB73FA3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05D91-571D-4DE0-AB78-EF7E0847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A6763-2859-442F-8D84-4937E4A4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9F551-24D1-403C-89E6-7C7023BE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78416-DF91-4D9B-8146-51D004E4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45C708-ED4E-44DC-BB68-4A65F7D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44796-B873-49AD-A687-3AD8FE2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3125B4-9805-49AB-AE74-2334B49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0FFBD2-1848-4574-8B14-224B0A5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F687-AF9D-4028-9CBD-E8D9496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2364E-3CF0-4494-BD20-B9FD089F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8502B3-368A-4B99-8A4A-28EBF39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86016-FA71-4673-BEAC-F1C4A159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D57A6D-81B7-4F5E-969B-BE08F95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6BF48-EBCC-4E4D-B926-E927701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1E859-80AB-4A78-8B46-EE7FE221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E95FB-0D5D-4B98-9B50-A3B0A45B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C554-29A2-4562-AA0E-6745F9F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0A36-5D79-4CEE-9AA5-DDAD7287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FA4-4DE6-4F18-B826-06436F20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0609-C102-4E13-8501-C3AD7C5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8FC1-B2C4-4629-BB7B-1D0BD5E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9828-682A-43D4-BE9A-760C651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2C9D-5066-4834-966C-716F6FB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7A88-5F14-464A-8FBC-50294BD2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76CE-1E40-4B9B-8C12-DB0D5B03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FBC0-6DC1-4994-8994-8CFFC2F3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C079-D6DA-44D7-9F98-A31128CB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07C6-57AD-4DA5-A742-CF8CB2E3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E2EC-641D-4E38-94DB-0A8A372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6F9-E8AC-4DAB-A6A3-60560009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14E2-ADB7-40DE-B8ED-D1D4B50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D5FD-80EC-4653-B558-47DF5DEC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D6F5-8EBA-4490-987E-88E3768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9F05-CB26-491E-9D05-CDABFDE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C048-4565-4713-A578-F6E6845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C828-BE2C-43DC-B05F-AF0434A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34A0-3999-48CB-8B62-49CB5A02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38CE-C4B8-4FD2-930F-0AA2EB73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5475-0776-4806-9E5B-1E91440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52D92-12E7-4970-8BD8-8DDE15B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A29-966D-40A0-8CE3-0ADFED8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9CB05-5498-4FFE-8C55-84DED72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C0BA6-0430-4BD5-9297-8B28CE0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F5F6-FB1E-4362-8330-7982BF2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F744-D798-4C76-AE45-49D5762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0D2B-0CF3-4CF4-AA62-9C97289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CC16-2CD8-4396-817E-328BFBB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2E11-9709-4765-910F-4B6AB77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1E38-3A47-4B39-B7B2-72FA50E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FFBD-23D1-47D5-A658-7F61861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F1D98-A0E8-4B59-BF75-60C0ABB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F7F-642A-4A81-8C72-84201B58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82F2-373E-4CA9-AC12-FC966250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48DA-B092-429C-A1AC-9E7E6D8E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E7B6-87CE-47D1-BF57-0EA4E9BC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FD4A9-1AB0-4926-A43A-44FDE3C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2BD4-F743-41A0-8C82-C1E398EE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DEE4-B944-4998-BBFF-B847C78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4A63-CA96-427C-AA53-54E4D8A1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D1E3C-5CB1-4B2F-837C-621A98F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C16C-26B9-456B-91C9-87429E2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6919-9BAE-415C-8814-69EE922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38F-0A0C-4A04-91D1-CD0ADA8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26DE-6316-4ECB-9649-02DE8CC0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4AEC7-16A5-4DDA-9C60-9C1C4C0B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81CD-116A-4870-A3AF-A76A5232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5DD7-FF52-42BF-B2ED-041C184C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0CA3-5623-4092-B410-115B10A6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7348E-E90E-4424-94EF-75AAC112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8BF4-CD7D-40B3-A5EC-ADA7F6D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D3AF-25D8-4E8B-8C79-B5E527FE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8CBD-17E7-4F9A-91B3-C98BCDBA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4440-CB7A-43A4-BC79-D45F681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EB1-2B9C-4A60-8158-84DA95B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073E-F765-492F-BC5D-FBE2380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801D-5FFF-4C48-A58A-18BF904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0CD1-08F3-48C0-8F5E-46A1970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E25FB-D0B5-4566-AAE6-61165A39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C9D2-7F6F-43F1-84C2-1B51D9AE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BC4D-B4E6-4CE5-993B-BD54540E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41DE-80BF-4156-903A-7DB09BA6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99D75-79EC-4719-96DE-148838A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6CEF4-E433-464D-8869-E8F09F8E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1B7F-AFEC-4030-AC69-67836860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51-B497-47AC-B6ED-70223DF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258E-40C8-4F0F-9307-5864272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9457A-F98F-4235-B869-473097A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9F96-48CB-49F3-BAB3-935C913D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A3C51-095B-41F0-93A9-9C555FF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50740-AEE3-473A-BAC9-1B97428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0B87-554B-4D1B-B4B3-39554D96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5946-647D-483F-9CBA-B69BBC93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8B489-9E69-49D5-9432-CD5612AD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E4C2A-71D8-43DD-BEE6-E13D979E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1C455-B6CB-49A0-B4EF-02389B8D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AA5-5862-4764-A185-70A959131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71B-B24D-4A81-9DAB-0C29AD00A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41E-2E5C-4CD8-94F3-70C91AD4D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962-4FAB-4C9E-9095-4F98117916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7B1-C465-4A08-A10C-51810122D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A3EF-302A-443A-B432-F94418480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116-6930-4681-A32D-B303AC83A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DF4-347B-482F-AA43-09958EF6A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58CE-7BBA-40E2-9EF6-E90D8A1DC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E21-1853-44FB-B6D6-3D9508FE3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269-3215-49E8-8F96-44259B254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FFE-0FDC-4D63-8A0E-B425B17F0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A26-E026-4FAA-BE2F-7B2B6DBC8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F391-BE0D-445A-8D4A-6A0BC81EA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C3F-EA67-4ACA-ACB7-C93DD83AC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AD9-C4B3-4D70-9D0D-A04CBE61D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5730-BDAE-452A-80F0-967532B78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F453-CB80-4C53-8363-F3C60FBAF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4AB9-96BB-403B-B4D3-F2826CAF4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07D-B516-4937-A2C7-90AB848EC7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8EC-39DF-4EB5-9D43-F7662FAAB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71F7-E0B7-4A2E-9681-42918E3360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D50-54D9-442D-864A-03F33294D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A36-BBE6-451C-90AA-4FC4CCA82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C92-2B65-465A-AFD4-05D002AAC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5DA8-2872-4729-881C-F55E376A41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4E6-E753-44B3-99FA-96166EF3DD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678D-3AE1-4D98-B870-7555A718E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6086-562F-47C5-A106-359AD4ECF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AD7-5CC8-43CD-AE8F-403B35A66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2D03-DEDC-4210-82AF-2D76A78DC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994-5C72-48CB-B034-6C70F91F4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C76-A3C7-4796-95CF-547EEC9FB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0C4-804A-4CF7-A716-4AA42B5F0E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E50-37AA-438F-9857-4816F58D8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4EE0-D478-4614-AF9D-CF8D9F305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774D-A4F3-4A3D-82F0-70B02EC2A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3FD-C6E3-4AA7-B7E5-5E8F49B04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258-81B8-4CF4-A360-0F4BC4943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78E-83C7-4ECA-98D6-7BC5DB758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29E-B8D5-4408-8E41-B771FF0140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275E-7FEB-4F96-ADA5-C9D7DEE3B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38400" y="2357280"/>
            <a:ext cx="66672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581040" y="828720"/>
            <a:ext cx="7981920" cy="5200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84360" y="8794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84360" y="2708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84360" y="3284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611280" y="386064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909720"/>
            <a:ext cx="8791920" cy="5038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4033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79640" y="5516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44500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66560" y="1023840"/>
            <a:ext cx="8210880" cy="4810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2484360" y="3917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164360" y="46530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476280" y="2757600"/>
            <a:ext cx="8191440" cy="13428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33200" y="190440"/>
            <a:ext cx="8877600" cy="647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7956720" y="256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7956720" y="4005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956720" y="61786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352440" y="958680"/>
            <a:ext cx="8439120" cy="5591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332000" y="269388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003640" y="2679840"/>
            <a:ext cx="29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076720" y="335772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185840" y="51703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584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5146560" y="5199120"/>
            <a:ext cx="36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5219640" y="5877000"/>
            <a:ext cx="3673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28600" y="1166760"/>
            <a:ext cx="8686800" cy="4524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042920" y="31971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87280" y="443700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684360" y="50277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76040" y="33480"/>
            <a:ext cx="8791920" cy="6791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3130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79930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5120" y="1023840"/>
            <a:ext cx="87537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8:0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